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A0F-4E50-4CD4-A366-9B7B2335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A7B-812C-47AB-8524-88D6B637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097-E32A-4C3A-8B77-265D310A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2B1-9943-4CB1-AA87-C0E56A5E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C5F-60B1-4A90-B27E-A7ED8A64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C0B-26A7-40D3-B10C-F02134B7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A15-FD52-40AC-A533-4A41779E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84F-8F49-49D4-9BF3-394B2443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677-1A2A-4DC6-BE17-23902B4B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783-4198-491B-81F8-DF589689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963-1E56-4895-AEA5-1D6AFB1F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6A5-60E0-4E76-B4D4-E964C90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DD6C-F327-4D5F-84B7-F76E2C25101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09:02:37Z</dcterms:created>
  <dc:creator>Grupo Editorial</dc:creator>
  <dc:description/>
  <dc:language>en-US</dc:language>
  <cp:lastModifiedBy>TORRES</cp:lastModifiedBy>
  <dcterms:modified xsi:type="dcterms:W3CDTF">2010-12-18T22:16:17Z</dcterms:modified>
  <cp:revision>1</cp:revision>
  <dc:subject/>
  <dc:title>Sin título de diapositiva</dc:title>
</cp:coreProperties>
</file>